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2BD0-7B03-4402-8537-B1000C68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C3B8-6126-4B7E-903A-AEDF0B13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6B70-F629-4421-A6C2-D8171A78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314C-7193-4157-AB4B-E1EADB44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9796-F584-4F3F-80BB-80C7927B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079E-7032-4C13-A4D5-D781907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895-4F9A-4938-B133-68E85F48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8B0F-E512-495F-94B6-0F05A8C0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6E03-E515-4CD2-9915-0A5941A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CBC0-A8D1-4E0A-9D62-A058FC21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AC2B-E12F-49AE-9AEF-3437F8A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B74C-E070-437F-BC09-948BA5EF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753F-3F68-4390-A386-40949A0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EAEF-4F52-4096-8625-7EB9A66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902B-8B42-4B8C-955A-9293B9A9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6168-E910-436F-A4E4-E51B7032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8C5-94CB-48C2-87E9-F13B6753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03D3-0A0F-4C1C-8CA0-975AF09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011B-C745-4759-B2D7-8B1100A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ED26-8839-4092-9177-15FE1FBC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F9A9-25A7-498E-9363-4E690617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21CB-4A05-4E89-A423-2A527A8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FA49-3443-47B8-BD8C-7375393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A462-8D21-4EE7-A2DF-6728B5C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1149-594F-4E90-87B8-4011E213C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CD1A-670D-4D7B-A9E0-F0184F2C86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Doctor Cho\Desktop\images.jpg"/>
          <p:cNvPicPr/>
          <p:nvPr/>
        </p:nvPicPr>
        <p:blipFill>
          <a:blip r:embed="rId1"/>
          <a:stretch/>
        </p:blipFill>
        <p:spPr>
          <a:xfrm>
            <a:off x="826920" y="1268280"/>
            <a:ext cx="75106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31 октября 2015 г. в Египте упал самолет, следовавший рейсом 9268 из Шарм-эль-Шейха в Санкт-Петербург. Все 224 пассажира и члены экипажа погибли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2" descr="C:\Users\Doctor Cho\Desktop\images.jpg"/>
          <p:cNvPicPr/>
          <p:nvPr/>
        </p:nvPicPr>
        <p:blipFill>
          <a:blip r:embed="rId1"/>
          <a:stretch/>
        </p:blipFill>
        <p:spPr>
          <a:xfrm>
            <a:off x="611280" y="2276640"/>
            <a:ext cx="5473440" cy="39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Файл:Lubyanka mourn photo.JPG"/>
          <p:cNvPicPr/>
          <p:nvPr/>
        </p:nvPicPr>
        <p:blipFill>
          <a:blip r:embed="rId2"/>
          <a:stretch/>
        </p:blipFill>
        <p:spPr>
          <a:xfrm>
            <a:off x="5651640" y="4149720"/>
            <a:ext cx="3162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авила поведения в случае угрозы террористического ак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 – ваша цель остаться в жив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трогайте, не вскрывайте, не передвигайте обнаруженные подозрительные предметы, т. к. это может привести к взрыв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йте взрослым или в полиц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же вы всё-таки оказались заложником, не допускайте действий, которые могут спровоцировать террористов к применению насилия или оруж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2" descr="C:\Users\Doctor Cho\Desktop\1193.jpg"/>
          <p:cNvPicPr/>
          <p:nvPr/>
        </p:nvPicPr>
        <p:blipFill>
          <a:blip r:embed="rId1"/>
          <a:stretch/>
        </p:blipFill>
        <p:spPr>
          <a:xfrm>
            <a:off x="755640" y="14842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Doctor Cho\Desktop\1304538363_gign.jpg"/>
          <p:cNvPicPr/>
          <p:nvPr/>
        </p:nvPicPr>
        <p:blipFill>
          <a:blip r:embed="rId2"/>
          <a:stretch/>
        </p:blipFill>
        <p:spPr>
          <a:xfrm>
            <a:off x="4788000" y="3645000"/>
            <a:ext cx="41130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ЕСЛИ ВАС ЗАХВАТИЛИ В ЗАЛОЖНИКИ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ривлекайте внимания террористов своим поведение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ытайтесь бежать, если нет полной уверенности в успехе побе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явите о своем плохом самочувств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мните как можно больше информации о террорист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оложитесь подальше от окон, дверей и самих террорист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штурме здания ложитесь на пол лицом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из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ив руки на затыл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6193080" cy="416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067280" y="2637000"/>
            <a:ext cx="4219560" cy="2879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24000" y="4941720"/>
            <a:ext cx="8642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роризм- идеология насилия и практика воздействия  на принятие решения органами власти, связанные с устрашением насе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Прямоугольник 7" descr=""/>
          <p:cNvPicPr/>
          <p:nvPr/>
        </p:nvPicPr>
        <p:blipFill>
          <a:blip r:embed="rId3"/>
          <a:stretch/>
        </p:blipFill>
        <p:spPr>
          <a:xfrm>
            <a:off x="2286000" y="-212760"/>
            <a:ext cx="4998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372360" cy="4268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519120" y="5460840"/>
            <a:ext cx="78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50920" y="4292640"/>
            <a:ext cx="83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терроризма: - политический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елигиоз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ционалистическ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риминаль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ологиче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6416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ррористы – это крайне жестокие люди, которые любыми способами хотят запугать нас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http://img.gazeta.ru/files3/367/3350367/2chernievdovi.jpg"/>
          <p:cNvPicPr/>
          <p:nvPr/>
        </p:nvPicPr>
        <p:blipFill>
          <a:blip r:embed="rId1"/>
          <a:stretch/>
        </p:blipFill>
        <p:spPr>
          <a:xfrm>
            <a:off x="179280" y="24922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img378"/>
          <p:cNvPicPr/>
          <p:nvPr/>
        </p:nvPicPr>
        <p:blipFill>
          <a:blip r:embed="rId2"/>
          <a:stretch/>
        </p:blipFill>
        <p:spPr>
          <a:xfrm>
            <a:off x="4427640" y="2421000"/>
            <a:ext cx="4467240" cy="246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2484360" y="4221000"/>
            <a:ext cx="370836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ррористические ак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а 10 последних лет совершено 6 500 актов международного терроризм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которых погибл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5 000 человек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страдали 11 000 челове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http://www.gudok.ru/upload/iblock/eab/395376_PREVIEW.jpg"/>
          <p:cNvPicPr/>
          <p:nvPr/>
        </p:nvPicPr>
        <p:blipFill>
          <a:blip r:embed="rId1"/>
          <a:stretch/>
        </p:blipFill>
        <p:spPr>
          <a:xfrm>
            <a:off x="5762520" y="2565360"/>
            <a:ext cx="3381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23 октября 2002 г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 в Москве театра на Дубровке во время представления Норд-Ост. Заложников удерживали в течение трёх дн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ибло 130 человек, десятки ранен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Памятник жертвам теракта.Скульптор — Александр Михайлович Белашов."/>
          <p:cNvPicPr/>
          <p:nvPr/>
        </p:nvPicPr>
        <p:blipFill>
          <a:blip r:embed="rId1"/>
          <a:stretch/>
        </p:blipFill>
        <p:spPr>
          <a:xfrm>
            <a:off x="4572000" y="4317840"/>
            <a:ext cx="19051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1 сентября 2004 год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л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4" descr="Beslan Monument.JPG"/>
          <p:cNvPicPr/>
          <p:nvPr/>
        </p:nvPicPr>
        <p:blipFill>
          <a:blip r:embed="rId1"/>
          <a:stretch/>
        </p:blipFill>
        <p:spPr>
          <a:xfrm>
            <a:off x="0" y="2133720"/>
            <a:ext cx="2535120" cy="4032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2627280" y="1700280"/>
            <a:ext cx="63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рористы захватили школу № 1  города  Беслана (Республика Северная Осетия).  Двое суток в спортзале удерживались преподаватели, ученики, и их родители – всего более 1200 челове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взрыва погиб 335 человек, в том числе 186 детей. 559 человек получили ра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Московское метро 29 марта 2010 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рывы   двух террористок-смертниц унесли жизни люд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гибло 40 человек, ранено 8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picture--113"/>
          <p:cNvPicPr/>
          <p:nvPr/>
        </p:nvPicPr>
        <p:blipFill>
          <a:blip r:embed="rId1"/>
          <a:stretch/>
        </p:blipFill>
        <p:spPr>
          <a:xfrm>
            <a:off x="1476360" y="3860640"/>
            <a:ext cx="3762360" cy="2833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В московском метро совершены теракты. ФОТО, ВИДЕО"/>
          <p:cNvPicPr/>
          <p:nvPr/>
        </p:nvPicPr>
        <p:blipFill>
          <a:blip r:embed="rId2"/>
          <a:stretch/>
        </p:blipFill>
        <p:spPr>
          <a:xfrm>
            <a:off x="5292720" y="3430440"/>
            <a:ext cx="31669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одедово Московский аэропорт 24 января 2011 г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рористический акт в в зале международных прилётов Погибло 37 человек, 117 – ранен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picture--113"/>
          <p:cNvPicPr/>
          <p:nvPr/>
        </p:nvPicPr>
        <p:blipFill>
          <a:blip r:embed="rId1"/>
          <a:stretch/>
        </p:blipFill>
        <p:spPr>
          <a:xfrm>
            <a:off x="4572000" y="3549600"/>
            <a:ext cx="4394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5:29:10Z</dcterms:created>
  <dc:creator>User</dc:creator>
  <dc:description/>
  <dc:language>en-US</dc:language>
  <cp:lastModifiedBy>USER</cp:lastModifiedBy>
  <dcterms:modified xsi:type="dcterms:W3CDTF">2024-12-11T06:39:54Z</dcterms:modified>
  <cp:revision>21</cp:revision>
  <dc:subject/>
  <dc:title>Терроризм – угроза обществу</dc:title>
</cp:coreProperties>
</file>